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38F6-53B0-471F-A24A-519C709DCF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F17F-072B-4580-AC3C-F13675DFA8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60E-94B5-4B8C-AFC0-36782693BF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437-F53F-4D87-BA01-1977FE8200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836-E2A7-46CD-95D5-B9E35900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91E-308F-484F-A445-D4DED6F9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16C-B197-408A-9862-587CA951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7A6-FBAB-4C81-A33F-C5347B78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59D6-A69E-4E4B-B65A-878F2D12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ED35-A621-4FA7-84F8-893CC62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F38-F374-4A62-9202-461B48E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B568-B300-4DB7-B182-3F46457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7A09-2184-4855-B14B-3968612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A9BF-3083-4DCB-B7C3-FF6A698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191-6CB1-4AD2-9FDC-F530702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B8B-CC47-4F7E-B660-B6DE293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D14-91CB-4210-B798-AA04A38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FCF9-8AAA-4EDD-A73D-29208468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92CD-04AA-4EC7-AB64-E7C62003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6AB-AB47-443C-9C79-289ED1B1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BD64-2537-42FB-A88F-347F751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8E2B-678D-4EED-838D-B7D6BBCC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DCDB-E2CD-436F-A629-3A19D33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5E6F-AE8D-43CF-8F35-FDD48FD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87F6-4B6C-4D0D-8AC7-6912903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8F42-564C-4180-8895-8216C9AA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C6E-BF3C-4E1F-8499-9BDD531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64B5-61FD-472E-88F2-ADC8999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CF1B-86B1-4265-9733-87CE9E8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C81B-2ECB-4913-A89D-1F83C498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0775-60CB-4CEC-AC92-E540A53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B174-A1F2-440B-B04C-C2424E8E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051D-8CF7-4110-BD17-54B3526C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D5E2-DED2-4DB6-B563-A72584DD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4914-28AC-4909-A440-D3D21443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A52A-F0F0-4CC0-B50B-1F60AC19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B848-C4CC-46EA-BF04-1E6FB32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E4A-6063-4B90-B9A0-60AACDD8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D78F-AEE1-410D-92E2-0A70A36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C64D-3775-4C9F-9BB1-202ECCB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BE17-D93C-4238-A27B-EEA7BE22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D9FC-EECB-4DBF-BBC4-942AD06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C000-BAD8-4512-996B-0BE5984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9A2B-F23B-484F-B50C-D98DA0A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58E9-0CE9-425B-87C9-998F13B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F01B-24DC-4218-AD09-F18504C1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E9DF-C5FF-4097-9374-3C891DC8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3716-6292-43FC-9E9E-8BDC87CA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EE8-6131-46EA-B544-B457F4A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4F11-C621-41DA-ABE3-E136275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8647-7CA6-4874-8B19-9E50482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F603-4FAD-452C-8222-C1C78B6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FD20-2C2E-41DE-ADB5-9D3CC53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D047-7204-4E47-855D-3F26906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1AFB-82CC-452C-B504-BDE3E6A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FE8F-C5E3-435B-9FFF-7F4B638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C641-646B-47C0-AAF4-B20804CA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3D65-23D8-465B-BCB0-CB234B9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82F0D-BA95-4955-857D-45B9F40E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537-66F8-432D-9A9B-5885627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D1D4-F2C3-4598-AFCA-67A42F48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CC5A-719B-4EC2-B40A-F6DD26B6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4D2DA-7923-436E-BE47-26AD92D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720F-7B7A-48FB-8C43-481AD68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2F777-E107-4F18-9A5D-FDBC0652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B757-3220-477A-9F2C-B1B1DB93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DB9F-7282-47AF-890F-CAB0ECB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8E04C-5DB4-4136-894E-FCAC470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08D1-580D-4A8E-B5D8-6BE5216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BE0C-370D-4CB7-8F3F-A8ACB5FA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269-48EC-4BC4-A91A-A867849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F243-A43C-4BC9-A097-417A614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4341B-4BEF-48F9-BBE0-7878DAA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C523-997D-49DB-9FC9-B13BE2CB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3D233-4DFA-4D52-B603-3F025148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871E-A4DD-406D-9957-3F6A6465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C431-6A6F-4759-8081-D42DDC4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FCE5-5C14-4B17-8EB1-D9CFD23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E289-C7F4-4823-A776-30E4AD40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D314D-B56A-440A-B1E3-D71D0D2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B046E-1C43-4269-9DF2-9DF2086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EDD-2919-4550-90B8-D0DDA1D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2162-CC8E-4E43-912E-502E8A9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B334-2087-470A-85BC-EA93855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E361B-28C0-47F4-A2E3-CCECC9E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1848-0A83-4E5F-9CA0-CB2E4267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E348-C6A1-43C4-9886-6EF303B4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67AF-53DC-4857-B458-50A23B6E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5E8FF-5016-41CD-96D6-EEE052E8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55AFE-D670-43B9-9096-F0520D0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D090-E7D7-4B84-9C26-66EDD1D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FAF2F-1504-4B7F-BC73-52EF231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8B1-EAA0-49FE-83F1-0F4F06A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ED17-E849-4411-85CA-8E3AE86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DF98-4775-44EA-9AD6-8C72066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71E4-FFC5-4810-8A2A-2315E2F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76E3B-3BE3-4153-AF18-C2DE337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3C45A-D69A-47E1-9F5F-A4B50AA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16182-28B5-4FFE-9C6E-C5846312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D0B26-B521-4889-AF67-8E3D0772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0EDB-13F6-44BE-BED0-77C5F0160AE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" name="Dowolny kształt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1" name="Dowolny kształt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pic>
          <p:nvPicPr>
            <p:cNvPr id="54" name="Łącznik prosty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BC9-8220-429A-B0CF-039D077E6E88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ag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F52D-5CCD-4C39-92FD-2BEE6D17A785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ECD-EAA4-4093-8C81-E697F81427C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5F36-14E5-47FC-BB90-E61C3E8BF4F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6CC-BF9D-4DC9-93E3-C8586B209E5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B40F-D3EC-4162-BA3C-80D4E99204B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Dowolny kształt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3" name="Trójkąt prostokątny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326" name="Łącznik prosty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ag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99B-EC5E-4AFA-935A-230F8445435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749160" y="2097000"/>
            <a:ext cx="8126640" cy="13114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571760" y="5572080"/>
            <a:ext cx="71863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64646"/>
                </a:solidFill>
                <a:latin typeface="Arial"/>
              </a:rPr>
              <a:t>Grzegorz Kolek Biblioteka Główna AON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64646"/>
                </a:solidFill>
                <a:latin typeface="Arial"/>
              </a:rPr>
              <a:t>g.kolek@aon.edu.p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Obraz 4" descr="aon_logo.jpg"/>
          <p:cNvPicPr/>
          <p:nvPr/>
        </p:nvPicPr>
        <p:blipFill>
          <a:blip r:embed="rId2"/>
          <a:stretch/>
        </p:blipFill>
        <p:spPr>
          <a:xfrm>
            <a:off x="7072200" y="28584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HPNW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HPB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rona cywiln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rona terytorium kraju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K  Obrona terytorial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rona cywiln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brona terytorialn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rona terytorium kraju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rroryzm powietrz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ractwo powietrz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erroryzm lotniczy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erroryzm lotniczy</a:t>
            </a:r>
            <a:br>
              <a:rPr sz="1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K Piractwo powietrz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ategia wojenn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S  Strategia bezpieczeńst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ojsko – strategia i taktyk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nik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strateg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kreślnik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strategia i taktyk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aktyka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st oddzielnym temate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ak, Zespół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łownik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uje z Komisją Terminologii Wojskowego Centrum Normalizacji, Jakości i Kodyfikacji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─ wersja w języku francuski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ersja w języku rosyjski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─ nie pozyskano specjalisty do tłumaczenia na język rosyjsk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38120" y="49320"/>
            <a:ext cx="8345520" cy="1377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5" name="Diagram 3" descr=""/>
          <p:cNvPicPr/>
          <p:nvPr/>
        </p:nvPicPr>
        <p:blipFill>
          <a:blip r:embed="rId2"/>
          <a:stretch/>
        </p:blipFill>
        <p:spPr>
          <a:xfrm>
            <a:off x="401760" y="1481040"/>
            <a:ext cx="4176720" cy="4322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4"/>
          <p:cNvSpPr/>
          <p:nvPr/>
        </p:nvSpPr>
        <p:spPr>
          <a:xfrm>
            <a:off x="5076720" y="141300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k, Propozycja opracowani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łowni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bezpieczeństw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projektu Centrum Informacji o Bezpieczeństwie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ojekcie zadeklarowały wstępnie udział Biblioteki WSzP, SGSP, BG AON i CB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Česká vojenská terminologie byla vložena v březnu 2009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za účasti Ing. Jana Mestek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łumaczenie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 na język czeski wydanego w 2007 r. „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Słownika języka haseł przedmiotowych piśmiennictwa wojskowego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Jakie działani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czy wprowadzić do bazy danych,</a:t>
            </a:r>
            <a:br>
              <a:rPr sz="2700"/>
            </a:b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  <a:ea typeface="Arial"/>
              </a:rPr>
              <a:t>czy zamieścić wersję tekstową w Interneci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zystkim użytkownikom JHPPW dziękujemy za dotychczasowe zainteresowanie i współpracę przy jego doskonaleniu, za postulaty i krytyczne uwagi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ez Państwa udziału jego rozwój nie byłby możliw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espół ds. rozwoju JHPN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ierwszy publikowany polski słownik języka haseł przedmiotowych z zakresu wojskowośc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dwoływał się do metodyki języka haseł przedmiotowych Biblioteki Narodowej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racowany w Bibliotece Głównej AON  przez zespół: Zofia Skrok, Jadwiga Zielińska, Grzegorz Kolek przy współpracy Centralnego Ośrodka Naukowej Informacji Wojskowej na podstawie prowadzonej w BG AON kartoteki przedmiotowej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wierał ok. 3 500 haseł przyjętych i odrzuconyc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epublikowany  słownik języka haseł przedmiotowych z zakresu wojskowości opracowany w Centralnej Bibliotece Wojskowej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dwoływał się do metodyki języka haseł przedmiotowych Biblioteki Narodowej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racowany w Centralnej Bibliotece Wojskowej przez zespół: Zygmunt Gerla, Ewa Foltyniewicz, Izabela Kowalska na podstawie prowadzonej w  Dziale Bibliografii Wojskowej kartoteki przedmiotowej Polskiej Bibliografii Wojskowej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wierał ok.  2500 haseł przyjętych i odrzuconyc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ł z inicjatywy dwóch bibliote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blioteki Głównej A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Zofia Skrok, Jadwiga Zielińska, Grzegorz Kolek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alnej Biblioteki Wojskow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Ewa Foltyniewicz, Izabela Kowalska, Zygmunt Gerla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e rozpoczęto w 1999 r., obejmowały m.in.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ryfikację i aktualizację terminologii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rontację słownictwa z katalogiem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budowę słownictwa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rządkowanie relacj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wierał ok. 4 500 haseł przyjętych i odrzuconyc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ł z inicjatywy dwóch bibliote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blioteki Głównej A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Zofia Skrok, Jadwiga Zielińska, Grzegorz Kolek) i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alnej Biblioteki Wojskow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Ewa Foltyniewicz, Izabela Kowalska, Zygmunt Gerla)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y współudziale Centralnego Ośrodka Naukowej Informacji Wojskowej (edycja) i współpracy z Centrum Informacji Fachowej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Federalnego Urzędu Języków Obcych Bundeswehr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e rozpoczęto w 2002 r., obejmowały m.in.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ryfikację i aktualizację terminologii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frontację słownictwa z katalogiem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budowę słownictwa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rowadzenie terminologii angielskiej i niemieckiej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wierał ok. 5 500 haseł przyjętych i odrzuconyc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47760" y="165240"/>
            <a:ext cx="85406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je Zespół ds. Rozwoju JHPNW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łk dr hab. Eugeniusz Cieślak – A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Agnieszka Gierada – CB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łk dr Krzysztof Graczyk – A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Grzegorz Kolek – BG A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Małgorzata Kopciał – CB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Jolanta Majewska – BG A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Jolanta Mijewska – BG A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sultanci z Akademii Obrony Narodowej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Ministerstwa Obrony Narodowej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Słowni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drukowany będzie jeszcze potrzebny bibliotekarzom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 opracować nowe wersje językowe (rosyjską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francuską)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y nawiązać współpracę z bibliotekami służb mundurowych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250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ytuł 2" descr=""/>
          <p:cNvPicPr/>
          <p:nvPr/>
        </p:nvPicPr>
        <p:blipFill>
          <a:blip r:embed="rId1"/>
          <a:stretch/>
        </p:blipFill>
        <p:spPr>
          <a:xfrm>
            <a:off x="390600" y="542880"/>
            <a:ext cx="8345520" cy="1109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ak, we wrześniu 2009 roku ukaże się nowa edycj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Słownik języka haseł przedmiotowych nauk wojskowych polsko-angielsko-niemiecki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ażniejsze zmiany w stosunku do wersji poprzedniej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─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miana w tytule piśmiennictwa wojskowego na nauk wojskowy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─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cofanie terminów niestosowanych w dokumentach normatywnych NATO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czego konsekwencją, jest tylko 4 500 hase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987280" y="1628640"/>
            <a:ext cx="316692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79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bez tytułu"/>
          <p:cNvPicPr/>
          <p:nvPr/>
        </p:nvPicPr>
        <p:blipFill>
          <a:blip r:embed="rId2"/>
          <a:stretch/>
        </p:blipFill>
        <p:spPr>
          <a:xfrm>
            <a:off x="2736720" y="1125360"/>
            <a:ext cx="35528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8:16:44Z</dcterms:created>
  <dc:creator>Klenczon</dc:creator>
  <dc:description/>
  <dc:language>en-US</dc:language>
  <cp:lastModifiedBy>GRzegorz Kolek</cp:lastModifiedBy>
  <dcterms:modified xsi:type="dcterms:W3CDTF">2009-06-03T05:28:46Z</dcterms:modified>
  <cp:revision>48</cp:revision>
  <dc:subject/>
  <dc:title>Język Haseł Przedmiotowych  Biblioteki Narodowej  - historia, perspektywy</dc:title>
</cp:coreProperties>
</file>